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33A-9BB9-4D2C-B034-AAAA9EA7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D86-78CD-4628-818E-ABD8C68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5D3-6AEA-43D4-AFE7-72282AF7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2D4-6340-4430-9769-D4EE066C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CA1-CB73-4CD7-AF47-4E671C3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5CE-0C7C-47D1-8FE6-8FE0D611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8C3-DA79-4D25-94F4-38D39CE0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755-7322-47FF-BE34-A83D696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2EF-1070-4986-8216-9475487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159-9461-4C5F-9703-4570AD28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310-D65A-490B-8755-D6411688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A1C-17B6-48A6-8F2C-621F393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5C29-6011-4434-AE8A-9A2843C7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nahomi</cp:lastModifiedBy>
  <dcterms:modified xsi:type="dcterms:W3CDTF">2010-03-25T14:56:30Z</dcterms:modified>
  <cp:revision>2</cp:revision>
  <dc:subject/>
  <dc:title>Advanced Portfolio</dc:title>
</cp:coreProperties>
</file>